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2A6-1961-4DEC-BDA6-5A0A3764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D4A-6ABE-4209-A1E2-770B3414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D76-FA28-479A-A1B7-3E0DCDA7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2FE-6842-4B12-A97E-E479D5B5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BB059-BBC7-45B4-B2D8-DB7C718C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42564-2BA7-4258-8978-5BCCE1F1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01F20-9689-4E34-9B0D-AE33B8EA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9EF98-0FAE-4EFD-9AB2-EFED58CD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6FEF3-9A23-4AD8-A0B2-28E92CE0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C0BD1-B7A2-4CE1-A035-FD7F0147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95B37-B11A-4A14-9E48-82C5FF91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8DF-C71A-4B3E-856C-FF64696A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E52FB-C04C-491C-BE58-CEADDA01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6BFC5-D1BB-444F-9AF6-A585C9DC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8B5A6-2121-437D-A247-048E510B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2CF71-15A2-40BE-A209-893F2E2A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62585-2257-41CE-97D7-434D52C0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B27-8D08-4F5D-8A82-D66540FA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B25C-25C7-4DF8-B43B-C094879B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8CD-5DD9-4FCC-970B-016F112A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F7A-9D2F-41C5-98B5-A8DD8F60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B464-36FF-4845-A53B-60260B95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56A-2EC0-4FCD-9FA9-355F778F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302-A34B-4733-9B0B-8EABBD53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34E6-DFEC-4CD2-A610-382FE81B6E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8C35-7CCF-4BC8-9926-02682079B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ependent Reading S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ck the Posters to see information on our Read 180 Library selection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soon as you rotate to the reading station, get your book and materials and start work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sure to use the same book every single tim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 all of your information on your DAILY READING L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your materials to the appropriate place when you are finish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mall Group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ring SG, you will build your vocabulary and writing skills as a group, in pairs, and independentl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ing your Folder and rBook to Small Group Instr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one person “has the mic” at a time. Do not interrupt or speak over one anoth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will do a great deal of discussion in small group- you must participate! Your opinion is very important and needs to be shared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the end, stack your rbooks neatly in the middle of the table. Bring your folder and writing utensil with you to the next sta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13:04:16Z</dcterms:created>
  <dc:creator> </dc:creator>
  <dc:description/>
  <dc:language>en-US</dc:language>
  <cp:lastModifiedBy> </cp:lastModifiedBy>
  <dcterms:modified xsi:type="dcterms:W3CDTF">2007-09-13T13:12:26Z</dcterms:modified>
  <cp:revision>1</cp:revision>
  <dc:subject/>
  <dc:title>Independent Reading Section</dc:title>
</cp:coreProperties>
</file>